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72288" cy="10061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957D-5382-457E-8721-8AC373F8D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F3DC-D1C9-4FC5-A2C7-9EB18DD5E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F2AA-2DC1-4E97-B8B1-9B81D539E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2991-A0B2-4128-AE42-D11F3DBCB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B15D-7FB7-48FD-9780-5B27F88D7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5B44-F732-4466-AF64-C764870C9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BF1C-77F5-4CD6-83C8-C44C69678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9E2C-796A-4DF7-B596-A8EBD6CC7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BB93-63C5-4092-9345-4B93CCD68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C7AE-B223-4E25-B827-2568FA4FF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A1E0-0F75-424C-B2AF-6F630431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7368-D031-49C9-839C-E9DB27C1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6000"/>
          </a:bodyPr>
          <a:p>
            <a:pPr marL="344520" indent="-34452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6640" indent="-28800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9120" indent="-22860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9200" indent="-23004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067840" indent="-2282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067840" indent="-2282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067840" indent="-2282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E6AB73EF-D311-4C1E-8ACC-16707EFA4411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53880" y="141120"/>
            <a:ext cx="9185400" cy="6233760"/>
            <a:chOff x="353880" y="141120"/>
            <a:chExt cx="9185400" cy="6233760"/>
          </a:xfrm>
        </p:grpSpPr>
        <p:sp>
          <p:nvSpPr>
            <p:cNvPr id="42" name=""/>
            <p:cNvSpPr/>
            <p:nvPr/>
          </p:nvSpPr>
          <p:spPr>
            <a:xfrm>
              <a:off x="2510280" y="2690640"/>
              <a:ext cx="2184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629080" y="2903040"/>
              <a:ext cx="199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510280" y="3115800"/>
              <a:ext cx="2184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10280" y="2690640"/>
              <a:ext cx="0" cy="42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613960" y="229824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flipV="1" rot="16200000">
              <a:off x="2542680" y="256860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75440" y="264060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7544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 rot="16200000">
              <a:off x="2685240" y="256860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717640" y="264060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1764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75440" y="2522520"/>
              <a:ext cx="14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 rot="16200000">
              <a:off x="2610720" y="217620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646720" y="246636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646720" y="22478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646720" y="212436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2613960" y="334152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rot="5400000">
              <a:off x="2542680" y="316548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2575440" y="31154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2575440" y="32407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5400000">
              <a:off x="2685240" y="316548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2717640" y="290268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717640" y="32407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575440" y="3283920"/>
              <a:ext cx="14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5400000">
              <a:off x="2610720" y="355824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2646720" y="328932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2646720" y="35078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2646720" y="363168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590200" y="3691080"/>
              <a:ext cx="11700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590200" y="3753000"/>
              <a:ext cx="11700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646720" y="3871080"/>
              <a:ext cx="0" cy="87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869200" y="229824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 rot="16200000">
              <a:off x="2797920" y="256860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830680" y="264060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3068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 rot="16200000">
              <a:off x="2940120" y="256896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973240" y="264060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97324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830680" y="2522520"/>
              <a:ext cx="14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 rot="16200000">
              <a:off x="2866320" y="217584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901960" y="246636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901960" y="22478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901960" y="1911600"/>
              <a:ext cx="0" cy="25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2869200" y="334152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5400000">
              <a:off x="2797920" y="316548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2830680" y="31154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2830680" y="32407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5400000">
              <a:off x="2940120" y="316584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2973240" y="290268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2973240" y="32407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830680" y="3283920"/>
              <a:ext cx="14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rot="5400000">
              <a:off x="2866320" y="355788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2901960" y="328932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2901960" y="35078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2901960" y="363168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845440" y="3691080"/>
              <a:ext cx="11736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45440" y="3753000"/>
              <a:ext cx="11736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901960" y="3871080"/>
              <a:ext cx="0" cy="80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412440" y="229824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 rot="16200000">
              <a:off x="3341160" y="256860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373920" y="264060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37392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 rot="16200000">
              <a:off x="3483360" y="256896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516480" y="264060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51648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373920" y="2522520"/>
              <a:ext cx="14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 rot="16200000">
              <a:off x="3409560" y="217584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445200" y="246636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445200" y="22478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445200" y="1902600"/>
              <a:ext cx="0" cy="27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5400000">
              <a:off x="3341160" y="316548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3373920" y="31154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3373920" y="3241080"/>
              <a:ext cx="0" cy="33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5400000">
              <a:off x="3483360" y="316584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3516480" y="290268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3516480" y="3240720"/>
              <a:ext cx="0" cy="8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3480840" y="332676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3516480" y="3493080"/>
              <a:ext cx="0" cy="8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373920" y="3584880"/>
              <a:ext cx="14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27320" y="229824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16200000">
              <a:off x="3056040" y="256896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089160" y="264060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8916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 rot="16200000">
              <a:off x="3198600" y="256860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231360" y="264060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23136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9160" y="2522520"/>
              <a:ext cx="14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 rot="16200000">
              <a:off x="3124440" y="217620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160080" y="246636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160080" y="22478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160080" y="1769760"/>
              <a:ext cx="0" cy="40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3127320" y="334152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5400000">
              <a:off x="3056040" y="316584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3089160" y="31154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3089160" y="32407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5400000">
              <a:off x="3198600" y="316548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3231360" y="290268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3231360" y="32407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089160" y="3283920"/>
              <a:ext cx="14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5400000">
              <a:off x="3124440" y="355824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3160080" y="328932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3160080" y="35078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3160080" y="363168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103920" y="3691080"/>
              <a:ext cx="11700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103920" y="3753000"/>
              <a:ext cx="11700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160080" y="3871080"/>
              <a:ext cx="0" cy="30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3127320" y="417672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03920" y="4397760"/>
              <a:ext cx="11700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3160080" y="434448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162960" y="3944880"/>
              <a:ext cx="36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26400" y="3998160"/>
              <a:ext cx="100800" cy="100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326400" y="4036320"/>
              <a:ext cx="100800" cy="100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3376800" y="394452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3376800" y="4139640"/>
              <a:ext cx="0" cy="74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83720" y="3998160"/>
              <a:ext cx="100800" cy="100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483720" y="4036320"/>
              <a:ext cx="100800" cy="100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3534480" y="394452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534480" y="4139280"/>
              <a:ext cx="0" cy="67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733200" y="229824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 rot="16200000">
              <a:off x="3661920" y="256860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694680" y="264060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9468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 rot="16200000">
              <a:off x="3804120" y="256860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36880" y="264060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83688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694680" y="2522520"/>
              <a:ext cx="14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 rot="16200000">
              <a:off x="3729960" y="217620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765960" y="246636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65960" y="22478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765960" y="212436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3733200" y="334152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5400000">
              <a:off x="3661920" y="316548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3694680" y="31154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3694680" y="32407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5400000">
              <a:off x="3804120" y="316548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3836880" y="290268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3836880" y="32407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694680" y="3283920"/>
              <a:ext cx="14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5400000">
              <a:off x="3729960" y="355824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765960" y="328932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765960" y="35078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3765960" y="363168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09440" y="3691080"/>
              <a:ext cx="11700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709440" y="3753000"/>
              <a:ext cx="11700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65960" y="3871080"/>
              <a:ext cx="0" cy="30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3733200" y="417384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709440" y="4394880"/>
              <a:ext cx="117000" cy="116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3765960" y="43412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768480" y="3944880"/>
              <a:ext cx="21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931920" y="3998160"/>
              <a:ext cx="100800" cy="100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931920" y="4036320"/>
              <a:ext cx="100800" cy="100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3982320" y="394452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3982320" y="4139640"/>
              <a:ext cx="0" cy="81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5" name=""/>
            <p:cNvGraphicFramePr/>
            <p:nvPr/>
          </p:nvGraphicFramePr>
          <p:xfrm>
            <a:off x="3133440" y="4377240"/>
            <a:ext cx="82800" cy="14184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9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133440" y="4377240"/>
                      <a:ext cx="82800" cy="14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7" name=""/>
            <p:cNvGraphicFramePr/>
            <p:nvPr/>
          </p:nvGraphicFramePr>
          <p:xfrm>
            <a:off x="3738960" y="4374000"/>
            <a:ext cx="82800" cy="14184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19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738960" y="4374000"/>
                      <a:ext cx="82800" cy="14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9" name=""/>
            <p:cNvSpPr/>
            <p:nvPr/>
          </p:nvSpPr>
          <p:spPr>
            <a:xfrm>
              <a:off x="4124880" y="229824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 rot="16200000">
              <a:off x="4053600" y="256860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86360" y="264060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8636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 rot="16200000">
              <a:off x="4196160" y="256860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228560" y="264060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22856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086360" y="2522520"/>
              <a:ext cx="14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 rot="16200000">
              <a:off x="4122000" y="217584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157640" y="246636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157640" y="22478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157640" y="191160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4124880" y="334152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5400000">
              <a:off x="4053600" y="316548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4086360" y="31154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4086360" y="32407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5400000">
              <a:off x="4196160" y="316548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4228560" y="290268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4228560" y="32407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086360" y="3283920"/>
              <a:ext cx="14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rot="5400000">
              <a:off x="4122000" y="355788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4157640" y="328932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157640" y="35078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4157640" y="363168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101120" y="3691080"/>
              <a:ext cx="11700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101120" y="3753000"/>
              <a:ext cx="11700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157640" y="3871080"/>
              <a:ext cx="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4124880" y="40158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101120" y="4236840"/>
              <a:ext cx="117000" cy="116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4157640" y="418356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160520" y="3944880"/>
              <a:ext cx="21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323960" y="3998160"/>
              <a:ext cx="100440" cy="100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323960" y="4036320"/>
              <a:ext cx="100440" cy="100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4374360" y="394452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4374360" y="4139280"/>
              <a:ext cx="0" cy="46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154760" y="3726720"/>
              <a:ext cx="11700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273560" y="3788640"/>
              <a:ext cx="6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 rot="5400000">
              <a:off x="4393440" y="3703680"/>
              <a:ext cx="66240" cy="16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80920" y="3558240"/>
              <a:ext cx="567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448520" y="229824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 rot="16200000">
              <a:off x="4377240" y="256860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409640" y="264060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40964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 rot="16200000">
              <a:off x="4519440" y="256896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552560" y="264060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55256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409640" y="2522520"/>
              <a:ext cx="14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 rot="16200000">
              <a:off x="4445280" y="217584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480920" y="246636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480920" y="22478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480920" y="1557360"/>
              <a:ext cx="0" cy="61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5400000">
              <a:off x="4377240" y="316548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4409640" y="31154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4409640" y="32407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5400000">
              <a:off x="4519440" y="316584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4552560" y="290268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4552560" y="32407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409640" y="3283920"/>
              <a:ext cx="14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4899960" y="2690640"/>
              <a:ext cx="2219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4979880" y="2903040"/>
              <a:ext cx="2065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4899960" y="3115800"/>
              <a:ext cx="2219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117200" y="2690640"/>
              <a:ext cx="0" cy="42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018400" y="229824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16200000">
              <a:off x="4946760" y="256896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979880" y="264060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97988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16200000">
              <a:off x="5089680" y="256860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122440" y="264060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12244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979880" y="2522520"/>
              <a:ext cx="14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6200000">
              <a:off x="5015160" y="217620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050800" y="246636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050800" y="22478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050800" y="212436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5400000">
              <a:off x="4946760" y="316584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979880" y="31154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4979880" y="32407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5400000">
              <a:off x="5089680" y="316548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5122440" y="290268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5122440" y="32407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979880" y="3283920"/>
              <a:ext cx="14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5015520" y="334152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5048280" y="328932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5048280" y="35078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4480920" y="3286440"/>
              <a:ext cx="0" cy="26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318280" y="229824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16200000">
              <a:off x="5246640" y="256860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279400" y="264060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27940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6200000">
              <a:off x="5389200" y="256896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422320" y="264060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42232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279400" y="2522520"/>
              <a:ext cx="14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 rot="16200000">
              <a:off x="5315040" y="217584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350680" y="246636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350680" y="22478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350680" y="1973520"/>
              <a:ext cx="0" cy="19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5318280" y="334152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rot="5400000">
              <a:off x="5246640" y="316548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279400" y="31154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5279400" y="32407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rot="5400000">
              <a:off x="5389200" y="316584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5422320" y="290268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5422320" y="32407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279400" y="3283920"/>
              <a:ext cx="14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5400000">
              <a:off x="5315040" y="355788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5350680" y="328932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5350680" y="35078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5350680" y="363168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294520" y="3691080"/>
              <a:ext cx="11700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294520" y="3753000"/>
              <a:ext cx="11700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350680" y="3871080"/>
              <a:ext cx="0" cy="44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641560" y="229824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 rot="16200000">
              <a:off x="5570280" y="256896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603400" y="264060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60340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 rot="16200000">
              <a:off x="5712840" y="256860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745600" y="264060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74560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603400" y="2522520"/>
              <a:ext cx="14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 rot="16200000">
              <a:off x="5638680" y="217620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674320" y="246636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674320" y="22478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311160" y="1840680"/>
              <a:ext cx="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5641560" y="334152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rot="5400000">
              <a:off x="5570280" y="316584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5603400" y="31154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5603400" y="32407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rot="5400000">
              <a:off x="5712840" y="316548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5745600" y="290268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5745600" y="32407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603400" y="3283920"/>
              <a:ext cx="14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rot="5400000">
              <a:off x="5638680" y="355824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5674320" y="328932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5674320" y="35078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674320" y="363168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618160" y="3691080"/>
              <a:ext cx="11700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618160" y="3753000"/>
              <a:ext cx="11700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674320" y="3871080"/>
              <a:ext cx="0" cy="27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641560" y="4153680"/>
              <a:ext cx="66960" cy="166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618160" y="4375800"/>
              <a:ext cx="11700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674320" y="432216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677200" y="3944880"/>
              <a:ext cx="21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840640" y="3998160"/>
              <a:ext cx="100800" cy="100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840640" y="4036320"/>
              <a:ext cx="100800" cy="100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891040" y="394452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5891040" y="4139280"/>
              <a:ext cx="0" cy="88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953320" y="229824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 rot="16200000">
              <a:off x="5882040" y="256896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914800" y="264060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91480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 rot="16200000">
              <a:off x="6024600" y="256860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057360" y="264060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05736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914800" y="2522520"/>
              <a:ext cx="14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 rot="16200000">
              <a:off x="5950080" y="217620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986080" y="246636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986080" y="22478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619680" y="1699200"/>
              <a:ext cx="0" cy="47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rot="5400000">
              <a:off x="5882040" y="316584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5914800" y="31154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5914800" y="3241080"/>
              <a:ext cx="0" cy="33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rot="5400000">
              <a:off x="6024600" y="316548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6057360" y="290268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057360" y="3240720"/>
              <a:ext cx="0" cy="8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021720" y="332676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6057360" y="3493080"/>
              <a:ext cx="0" cy="8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914800" y="3584880"/>
              <a:ext cx="14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280200" y="229824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 rot="16200000">
              <a:off x="6208560" y="256860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241320" y="264060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24132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 rot="16200000">
              <a:off x="6351120" y="256860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383880" y="264060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38388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241320" y="2522520"/>
              <a:ext cx="14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 rot="16200000">
              <a:off x="6276600" y="217620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312600" y="246636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312600" y="22478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6280200" y="334152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rot="5400000">
              <a:off x="6208560" y="316548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6241320" y="31154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6241320" y="32407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rot="5400000">
              <a:off x="6351120" y="316548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6383880" y="290268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6383880" y="32407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241320" y="3283920"/>
              <a:ext cx="14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rot="5400000">
              <a:off x="6276600" y="355824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6312600" y="328932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6312600" y="35078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6312600" y="363168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256080" y="3691080"/>
              <a:ext cx="11700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256080" y="3753000"/>
              <a:ext cx="11700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312600" y="3871080"/>
              <a:ext cx="0" cy="27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6280200" y="4149360"/>
              <a:ext cx="66600" cy="166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256080" y="4371480"/>
              <a:ext cx="11700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6312600" y="43178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315480" y="3944880"/>
              <a:ext cx="21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478560" y="3998160"/>
              <a:ext cx="100800" cy="100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478560" y="4036320"/>
              <a:ext cx="100800" cy="100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6529320" y="394452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6529320" y="4139640"/>
              <a:ext cx="0" cy="39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588720" y="229824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 rot="16200000">
              <a:off x="6517440" y="256860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49840" y="264060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54984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 rot="16200000">
              <a:off x="6659640" y="256860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692400" y="264060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69240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49840" y="2522520"/>
              <a:ext cx="14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 rot="16200000">
              <a:off x="6585840" y="217584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621480" y="246636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21480" y="22478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6588720" y="334152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rot="5400000">
              <a:off x="6517440" y="316548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6549840" y="31154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6549840" y="32407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rot="5400000">
              <a:off x="6659640" y="316548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6692400" y="290268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6692400" y="32407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549840" y="3283920"/>
              <a:ext cx="14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rot="5400000">
              <a:off x="6585840" y="355788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>
              <a:off x="6621480" y="328932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6621480" y="35078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6621480" y="363168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564960" y="3691080"/>
              <a:ext cx="11736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564960" y="3753000"/>
              <a:ext cx="11736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621480" y="3871080"/>
              <a:ext cx="0" cy="94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91760" y="5203440"/>
              <a:ext cx="1567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91760" y="5486760"/>
              <a:ext cx="783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723240" y="493776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56000" y="5107680"/>
              <a:ext cx="0" cy="37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62680" y="558576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95440" y="5753880"/>
              <a:ext cx="0" cy="26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595440" y="548676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47800" y="5107680"/>
              <a:ext cx="0" cy="37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rot="5400000">
              <a:off x="948240" y="5025960"/>
              <a:ext cx="66240" cy="16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847800" y="5109120"/>
              <a:ext cx="5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1067400" y="5109120"/>
              <a:ext cx="5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123920" y="5109120"/>
              <a:ext cx="0" cy="9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165680" y="558576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198080" y="5753880"/>
              <a:ext cx="0" cy="61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1198080" y="548676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914400" y="558576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947160" y="5753880"/>
              <a:ext cx="0" cy="33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947160" y="548676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rot="5400000">
              <a:off x="1331280" y="5400720"/>
              <a:ext cx="66240" cy="16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444680" y="5486760"/>
              <a:ext cx="641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488960" y="558576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521720" y="5753880"/>
              <a:ext cx="0" cy="19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1521720" y="548676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99560" y="558576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732320" y="5753880"/>
              <a:ext cx="0" cy="47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1732320" y="548676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848240" y="558576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880640" y="5753880"/>
              <a:ext cx="0" cy="40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V="1">
              <a:off x="1880640" y="548676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993320" y="558576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026080" y="5753880"/>
              <a:ext cx="0" cy="54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2026080" y="548676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622520" y="5107680"/>
              <a:ext cx="0" cy="37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rot="5400000">
              <a:off x="1722960" y="5025960"/>
              <a:ext cx="66240" cy="16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1622520" y="5109120"/>
              <a:ext cx="5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1842120" y="5109120"/>
              <a:ext cx="5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898640" y="5109120"/>
              <a:ext cx="0" cy="9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2444760" y="5123880"/>
              <a:ext cx="207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>
              <a:off x="2311200" y="5486760"/>
              <a:ext cx="20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444760" y="522576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2477520" y="512676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477520" y="539244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342520" y="55782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237528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375280" y="574488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2244240" y="5841000"/>
              <a:ext cx="261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569320" y="5486760"/>
              <a:ext cx="20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2576880" y="522576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V="1">
              <a:off x="2611080" y="512676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611080" y="539244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2678760" y="55782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V="1">
              <a:off x="271332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713320" y="574488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602080" y="5841000"/>
              <a:ext cx="213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5193360" y="5486760"/>
              <a:ext cx="213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312160" y="522576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>
              <a:off x="5344920" y="4886280"/>
              <a:ext cx="0" cy="33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344920" y="539244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217120" y="557820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524988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56000" y="4673880"/>
              <a:ext cx="0" cy="26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56000" y="4183920"/>
              <a:ext cx="0" cy="9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16320" y="4288680"/>
              <a:ext cx="444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0" name=""/>
            <p:cNvGrpSpPr/>
            <p:nvPr/>
          </p:nvGrpSpPr>
          <p:grpSpPr>
            <a:xfrm>
              <a:off x="718560" y="3925800"/>
              <a:ext cx="66960" cy="250200"/>
              <a:chOff x="718560" y="3925800"/>
              <a:chExt cx="66960" cy="250200"/>
            </a:xfrm>
          </p:grpSpPr>
          <p:sp>
            <p:nvSpPr>
              <p:cNvPr id="491" name=""/>
              <p:cNvSpPr/>
              <p:nvPr/>
            </p:nvSpPr>
            <p:spPr>
              <a:xfrm flipV="1">
                <a:off x="718560" y="4008960"/>
                <a:ext cx="66960" cy="166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55640" y="3925800"/>
                <a:ext cx="0" cy="8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3" name=""/>
            <p:cNvSpPr/>
            <p:nvPr/>
          </p:nvSpPr>
          <p:spPr>
            <a:xfrm>
              <a:off x="705240" y="3784320"/>
              <a:ext cx="100800" cy="99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05240" y="3822480"/>
              <a:ext cx="100800" cy="100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18560" y="3527280"/>
              <a:ext cx="66960" cy="166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V="1">
              <a:off x="756000" y="3693960"/>
              <a:ext cx="0" cy="8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756000" y="3327840"/>
              <a:ext cx="0" cy="19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62680" y="3434400"/>
              <a:ext cx="627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62680" y="3323880"/>
              <a:ext cx="627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rot="5400000">
              <a:off x="979560" y="3146040"/>
              <a:ext cx="66240" cy="16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097280" y="3226320"/>
              <a:ext cx="5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77320" y="3229560"/>
              <a:ext cx="5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877320" y="3233880"/>
              <a:ext cx="0" cy="19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147680" y="3233880"/>
              <a:ext cx="0" cy="9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37200" y="3186720"/>
              <a:ext cx="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02640" y="301824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37200" y="2876760"/>
              <a:ext cx="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02640" y="270828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637200" y="2566440"/>
              <a:ext cx="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62680" y="2569680"/>
              <a:ext cx="925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62680" y="2463480"/>
              <a:ext cx="925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rot="5400000">
              <a:off x="834480" y="2281320"/>
              <a:ext cx="66240" cy="167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951840" y="2361600"/>
              <a:ext cx="5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31880" y="2364480"/>
              <a:ext cx="5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31880" y="2369160"/>
              <a:ext cx="0" cy="19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002240" y="2369160"/>
              <a:ext cx="0" cy="9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847800" y="270828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881640" y="24634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9" name=""/>
            <p:cNvGrpSpPr/>
            <p:nvPr/>
          </p:nvGrpSpPr>
          <p:grpSpPr>
            <a:xfrm>
              <a:off x="1098360" y="2463480"/>
              <a:ext cx="66960" cy="411120"/>
              <a:chOff x="1098360" y="2463480"/>
              <a:chExt cx="66960" cy="411120"/>
            </a:xfrm>
          </p:grpSpPr>
          <p:sp>
            <p:nvSpPr>
              <p:cNvPr id="520" name=""/>
              <p:cNvSpPr/>
              <p:nvPr/>
            </p:nvSpPr>
            <p:spPr>
              <a:xfrm>
                <a:off x="1098360" y="2708280"/>
                <a:ext cx="66960" cy="166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flipV="1">
                <a:off x="1132200" y="2463480"/>
                <a:ext cx="0" cy="24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2" name=""/>
            <p:cNvSpPr/>
            <p:nvPr/>
          </p:nvSpPr>
          <p:spPr>
            <a:xfrm flipV="1">
              <a:off x="1417680" y="207108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451880" y="2239200"/>
              <a:ext cx="0" cy="22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451880" y="636840"/>
              <a:ext cx="0" cy="143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5" name=""/>
            <p:cNvGrpSpPr/>
            <p:nvPr/>
          </p:nvGrpSpPr>
          <p:grpSpPr>
            <a:xfrm>
              <a:off x="1147680" y="1480680"/>
              <a:ext cx="142200" cy="1085760"/>
              <a:chOff x="1147680" y="1480680"/>
              <a:chExt cx="142200" cy="1085760"/>
            </a:xfrm>
          </p:grpSpPr>
          <p:sp>
            <p:nvSpPr>
              <p:cNvPr id="526" name=""/>
              <p:cNvSpPr/>
              <p:nvPr/>
            </p:nvSpPr>
            <p:spPr>
              <a:xfrm flipV="1">
                <a:off x="1203840" y="2070720"/>
                <a:ext cx="66240" cy="166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1237680" y="2239200"/>
                <a:ext cx="0" cy="32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1236240" y="1982160"/>
                <a:ext cx="0" cy="8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1189080" y="1843560"/>
                <a:ext cx="100800" cy="100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1147680" y="1841040"/>
                <a:ext cx="141480" cy="141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286" y="290"/>
                    </a:moveTo>
                    <a:arcTo wR="10800" hR="10800" stAng="-4601561" swAng="460156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286" y="290"/>
                    </a:moveTo>
                    <a:arcTo wR="10800" hR="10800" stAng="-4601561" swAng="4601561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1203840" y="1569240"/>
                <a:ext cx="66240" cy="166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V="1">
                <a:off x="1236240" y="1480680"/>
                <a:ext cx="0" cy="8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236240" y="1746360"/>
                <a:ext cx="0" cy="88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4" name=""/>
            <p:cNvSpPr/>
            <p:nvPr/>
          </p:nvSpPr>
          <p:spPr>
            <a:xfrm>
              <a:off x="633960" y="1486800"/>
              <a:ext cx="712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33960" y="1377360"/>
              <a:ext cx="712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V="1" rot="16200000">
              <a:off x="813240" y="1496160"/>
              <a:ext cx="66240" cy="16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930960" y="1584000"/>
              <a:ext cx="5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11000" y="1581120"/>
              <a:ext cx="5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V="1">
              <a:off x="711000" y="1377000"/>
              <a:ext cx="0" cy="19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V="1">
              <a:off x="981360" y="1481760"/>
              <a:ext cx="0" cy="9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981360" y="1274400"/>
              <a:ext cx="0" cy="9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>
              <a:off x="948600" y="1099080"/>
              <a:ext cx="66600" cy="166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982800" y="545040"/>
              <a:ext cx="0" cy="55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985120" y="990720"/>
              <a:ext cx="11700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985120" y="1052640"/>
              <a:ext cx="117000" cy="116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006000" y="843120"/>
              <a:ext cx="70920" cy="7092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006000" y="843120"/>
              <a:ext cx="7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041640" y="914400"/>
              <a:ext cx="0" cy="7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041640" y="1173960"/>
              <a:ext cx="0" cy="10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006000" y="1221120"/>
              <a:ext cx="7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006000" y="12744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198600" y="990720"/>
              <a:ext cx="11700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198600" y="1052640"/>
              <a:ext cx="117000" cy="116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219480" y="843120"/>
              <a:ext cx="70920" cy="7092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219480" y="843120"/>
              <a:ext cx="7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255120" y="914400"/>
              <a:ext cx="0" cy="7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255120" y="1173960"/>
              <a:ext cx="0" cy="10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219480" y="1221120"/>
              <a:ext cx="7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19480" y="12744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403800" y="990720"/>
              <a:ext cx="11700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403800" y="1052640"/>
              <a:ext cx="117000" cy="116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424320" y="843120"/>
              <a:ext cx="71280" cy="7092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424320" y="84312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459960" y="914400"/>
              <a:ext cx="0" cy="7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459960" y="1173960"/>
              <a:ext cx="0" cy="10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424320" y="122112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424320" y="127440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605400" y="990720"/>
              <a:ext cx="11736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605400" y="1052640"/>
              <a:ext cx="117360" cy="116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626280" y="843120"/>
              <a:ext cx="71280" cy="7092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626280" y="84312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661920" y="914400"/>
              <a:ext cx="0" cy="7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661920" y="1173960"/>
              <a:ext cx="0" cy="10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626280" y="122112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626280" y="12744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973680" y="990720"/>
              <a:ext cx="11700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973680" y="1052640"/>
              <a:ext cx="117000" cy="116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994560" y="843120"/>
              <a:ext cx="70920" cy="7092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994560" y="843120"/>
              <a:ext cx="7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29840" y="914400"/>
              <a:ext cx="0" cy="7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029840" y="1173960"/>
              <a:ext cx="0" cy="10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994560" y="1221120"/>
              <a:ext cx="7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994560" y="12744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175640" y="990720"/>
              <a:ext cx="11700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175640" y="1052640"/>
              <a:ext cx="117000" cy="116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196160" y="843120"/>
              <a:ext cx="71280" cy="7092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196160" y="84312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231800" y="914400"/>
              <a:ext cx="0" cy="7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231800" y="1173960"/>
              <a:ext cx="0" cy="10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196160" y="122112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196160" y="127440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 rot="16200000">
              <a:off x="5826960" y="869040"/>
              <a:ext cx="66240" cy="16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943240" y="955440"/>
              <a:ext cx="189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586840" y="955440"/>
              <a:ext cx="190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 flipV="1" rot="10800000">
              <a:off x="5637960" y="113112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5672880" y="957960"/>
              <a:ext cx="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 flipV="1" rot="10800000">
              <a:off x="5989680" y="113112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6024600" y="957960"/>
              <a:ext cx="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672880" y="1297800"/>
              <a:ext cx="0" cy="11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023160" y="1297800"/>
              <a:ext cx="0" cy="11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613840" y="1424520"/>
              <a:ext cx="117000" cy="116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613840" y="1486800"/>
              <a:ext cx="11700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963760" y="1424520"/>
              <a:ext cx="117360" cy="116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963760" y="1486800"/>
              <a:ext cx="11736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758360" y="2150640"/>
              <a:ext cx="1210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758360" y="2041560"/>
              <a:ext cx="1210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7" name=""/>
            <p:cNvGrpSpPr/>
            <p:nvPr/>
          </p:nvGrpSpPr>
          <p:grpSpPr>
            <a:xfrm>
              <a:off x="8271720" y="1911600"/>
              <a:ext cx="270000" cy="235800"/>
              <a:chOff x="8271720" y="1911600"/>
              <a:chExt cx="270000" cy="235800"/>
            </a:xfrm>
          </p:grpSpPr>
          <p:sp>
            <p:nvSpPr>
              <p:cNvPr id="608" name=""/>
              <p:cNvSpPr/>
              <p:nvPr/>
            </p:nvSpPr>
            <p:spPr>
              <a:xfrm flipH="1" rot="16200000">
                <a:off x="8372880" y="1860840"/>
                <a:ext cx="66240" cy="167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H="1">
                <a:off x="8272080" y="1940760"/>
                <a:ext cx="5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H="1">
                <a:off x="8491320" y="1943640"/>
                <a:ext cx="5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541720" y="1948320"/>
                <a:ext cx="0" cy="19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271720" y="1948320"/>
                <a:ext cx="0" cy="9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3" name=""/>
            <p:cNvSpPr/>
            <p:nvPr/>
          </p:nvSpPr>
          <p:spPr>
            <a:xfrm>
              <a:off x="7829280" y="1938240"/>
              <a:ext cx="0" cy="9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V="1">
              <a:off x="7796520" y="176400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829280" y="636840"/>
              <a:ext cx="0" cy="112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7959960" y="2041200"/>
              <a:ext cx="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927200" y="227916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V="1">
              <a:off x="7959960" y="2448720"/>
              <a:ext cx="0" cy="9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V="1">
              <a:off x="8114400" y="2041200"/>
              <a:ext cx="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081640" y="227916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V="1">
              <a:off x="8114400" y="2448720"/>
              <a:ext cx="0" cy="24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>
              <a:off x="8699040" y="167832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733240" y="1846800"/>
              <a:ext cx="0" cy="18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8731800" y="1589760"/>
              <a:ext cx="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8684280" y="1451160"/>
              <a:ext cx="100800" cy="100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V="1">
              <a:off x="8643240" y="1449000"/>
              <a:ext cx="141480" cy="14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86" y="290"/>
                  </a:moveTo>
                  <a:arcTo wR="10800" hR="10800" stAng="-4601561" swAng="460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86" y="290"/>
                  </a:moveTo>
                  <a:arcTo wR="10800" hR="10800" stAng="-4601561" swAng="4601561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V="1">
              <a:off x="8699040" y="117684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8731800" y="1088280"/>
              <a:ext cx="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8731800" y="1353960"/>
              <a:ext cx="0" cy="8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8470440" y="1088280"/>
              <a:ext cx="49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V="1">
              <a:off x="8699040" y="79596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8731800" y="544680"/>
              <a:ext cx="0" cy="2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8731800" y="973080"/>
              <a:ext cx="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73240" y="3115800"/>
              <a:ext cx="99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473240" y="3006720"/>
              <a:ext cx="99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6" name=""/>
            <p:cNvGrpSpPr/>
            <p:nvPr/>
          </p:nvGrpSpPr>
          <p:grpSpPr>
            <a:xfrm>
              <a:off x="7986600" y="2876760"/>
              <a:ext cx="269640" cy="235800"/>
              <a:chOff x="7986600" y="2876760"/>
              <a:chExt cx="269640" cy="235800"/>
            </a:xfrm>
          </p:grpSpPr>
          <p:sp>
            <p:nvSpPr>
              <p:cNvPr id="637" name=""/>
              <p:cNvSpPr/>
              <p:nvPr/>
            </p:nvSpPr>
            <p:spPr>
              <a:xfrm flipH="1" rot="16200000">
                <a:off x="8087760" y="2826000"/>
                <a:ext cx="66240" cy="167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flipH="1">
                <a:off x="7986960" y="2905920"/>
                <a:ext cx="5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flipH="1">
                <a:off x="8205840" y="2908800"/>
                <a:ext cx="5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8256240" y="2913480"/>
                <a:ext cx="0" cy="19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7986600" y="2913480"/>
                <a:ext cx="0" cy="9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2" name=""/>
            <p:cNvSpPr/>
            <p:nvPr/>
          </p:nvSpPr>
          <p:spPr>
            <a:xfrm flipV="1">
              <a:off x="7773120" y="3001680"/>
              <a:ext cx="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740360" y="3239280"/>
              <a:ext cx="66600" cy="166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7773120" y="3409200"/>
              <a:ext cx="0" cy="119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>
              <a:off x="7577280" y="3115440"/>
              <a:ext cx="0" cy="11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544520" y="3239280"/>
              <a:ext cx="66600" cy="166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V="1">
              <a:off x="7577280" y="3409560"/>
              <a:ext cx="0" cy="26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V="1" rot="16200000">
              <a:off x="8283240" y="3489840"/>
              <a:ext cx="66240" cy="16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399520" y="3576240"/>
              <a:ext cx="189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043120" y="3576240"/>
              <a:ext cx="190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142840" y="3836880"/>
              <a:ext cx="0" cy="26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V="1">
              <a:off x="8110080" y="3666600"/>
              <a:ext cx="66600" cy="166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V="1">
              <a:off x="8142840" y="3575880"/>
              <a:ext cx="0" cy="8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503200" y="3841920"/>
              <a:ext cx="0" cy="33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V="1">
              <a:off x="8470440" y="3666600"/>
              <a:ext cx="66960" cy="166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V="1">
              <a:off x="8503200" y="3575880"/>
              <a:ext cx="0" cy="8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V="1" rot="16200000">
              <a:off x="8924400" y="3489840"/>
              <a:ext cx="66240" cy="16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9040680" y="3576240"/>
              <a:ext cx="189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684280" y="3576240"/>
              <a:ext cx="190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784000" y="3841920"/>
              <a:ext cx="0" cy="33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V="1">
              <a:off x="8751240" y="3666600"/>
              <a:ext cx="66600" cy="166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V="1">
              <a:off x="8784000" y="3575880"/>
              <a:ext cx="0" cy="8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9144360" y="3841920"/>
              <a:ext cx="0" cy="40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V="1">
              <a:off x="9111600" y="3666600"/>
              <a:ext cx="66960" cy="166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V="1">
              <a:off x="9144360" y="3575880"/>
              <a:ext cx="0" cy="8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188120" y="5486760"/>
              <a:ext cx="641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>
              <a:off x="7224840" y="55782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V="1">
              <a:off x="725940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259400" y="574488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376760" y="557820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V="1">
              <a:off x="741096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410960" y="574488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36600" y="55782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V="1">
              <a:off x="757116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571160" y="5744880"/>
              <a:ext cx="0" cy="20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>
              <a:off x="7686360" y="55782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V="1">
              <a:off x="772092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972200" y="5486760"/>
              <a:ext cx="667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>
              <a:off x="7945920" y="55782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V="1">
              <a:off x="798084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>
              <a:off x="8038800" y="557820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V="1">
              <a:off x="807300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H="1">
              <a:off x="8405280" y="557820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V="1">
              <a:off x="843948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8439480" y="574488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H="1">
              <a:off x="8496720" y="55782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V="1">
              <a:off x="853128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8531280" y="5744880"/>
              <a:ext cx="0" cy="62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826840" y="5486760"/>
              <a:ext cx="641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H="1">
              <a:off x="8863200" y="55782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V="1">
              <a:off x="889812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898120" y="5744880"/>
              <a:ext cx="0" cy="62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H="1">
              <a:off x="9014760" y="55782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V="1">
              <a:off x="904932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9049320" y="5744880"/>
              <a:ext cx="0" cy="20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>
              <a:off x="9174960" y="55782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V="1">
              <a:off x="920952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9209520" y="5744880"/>
              <a:ext cx="0" cy="13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H="1">
              <a:off x="9325440" y="557820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V="1">
              <a:off x="935964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9359640" y="5744880"/>
              <a:ext cx="0" cy="6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481880" y="4744440"/>
              <a:ext cx="0" cy="73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H="1">
              <a:off x="8496720" y="521388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V="1">
              <a:off x="8531280" y="511488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8531280" y="538056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H="1">
              <a:off x="8865360" y="521388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8899560" y="511488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8899560" y="538056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8399520" y="5113440"/>
              <a:ext cx="641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879120" y="2876760"/>
              <a:ext cx="0" cy="11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128240" y="2876760"/>
              <a:ext cx="0" cy="7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878400" y="2991960"/>
              <a:ext cx="9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845000" y="2124360"/>
              <a:ext cx="0" cy="86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845000" y="2122560"/>
              <a:ext cx="79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132200" y="2947320"/>
              <a:ext cx="64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774080" y="1911600"/>
              <a:ext cx="0" cy="103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774080" y="1911600"/>
              <a:ext cx="112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160080" y="176976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661920" y="1442160"/>
              <a:ext cx="0" cy="32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255840" y="1898280"/>
              <a:ext cx="18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252240" y="1442160"/>
              <a:ext cx="0" cy="45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038400" y="1442160"/>
              <a:ext cx="0" cy="25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039840" y="1697400"/>
              <a:ext cx="357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457080" y="1442160"/>
              <a:ext cx="0" cy="39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456360" y="1837800"/>
              <a:ext cx="2860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226760" y="1550160"/>
              <a:ext cx="25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227480" y="1442160"/>
              <a:ext cx="0" cy="10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032000" y="1768320"/>
              <a:ext cx="288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026960" y="1442160"/>
              <a:ext cx="0" cy="32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674320" y="1606320"/>
              <a:ext cx="0" cy="56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017040" y="16063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H="1">
              <a:off x="6016680" y="1641600"/>
              <a:ext cx="131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331040" y="1641600"/>
              <a:ext cx="0" cy="91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V="1">
              <a:off x="7331040" y="2549160"/>
              <a:ext cx="633600" cy="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185600" y="2687760"/>
              <a:ext cx="92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188120" y="1964520"/>
              <a:ext cx="0" cy="72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>
              <a:off x="3035520" y="5123880"/>
              <a:ext cx="207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>
              <a:off x="2901960" y="5486760"/>
              <a:ext cx="20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035520" y="522576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V="1">
              <a:off x="3068280" y="512676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068280" y="539244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933280" y="55782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V="1">
              <a:off x="296568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965680" y="5744880"/>
              <a:ext cx="0" cy="19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160080" y="5486760"/>
              <a:ext cx="20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H="1">
              <a:off x="3167280" y="522576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V="1">
              <a:off x="3201840" y="512676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201840" y="539244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3269520" y="55782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V="1">
              <a:off x="330408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304080" y="5744880"/>
              <a:ext cx="0" cy="27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3611520" y="5123880"/>
              <a:ext cx="207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H="1">
              <a:off x="3477600" y="5486760"/>
              <a:ext cx="20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611520" y="522576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V="1">
              <a:off x="3643920" y="512676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643920" y="539244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508920" y="55782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V="1">
              <a:off x="354168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541680" y="574488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flipH="1">
              <a:off x="3438720" y="5841000"/>
              <a:ext cx="213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736080" y="5486760"/>
              <a:ext cx="20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>
              <a:off x="3743280" y="522576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V="1">
              <a:off x="3777840" y="512676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777840" y="539244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>
              <a:off x="3845160" y="55782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V="1">
              <a:off x="388008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880080" y="574488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768480" y="5841000"/>
              <a:ext cx="213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H="1">
              <a:off x="4212360" y="5123880"/>
              <a:ext cx="207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flipH="1">
              <a:off x="4078800" y="5486760"/>
              <a:ext cx="20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212360" y="522576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V="1">
              <a:off x="4245120" y="512676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245120" y="539244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110120" y="55782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V="1">
              <a:off x="414288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4142880" y="5744880"/>
              <a:ext cx="0" cy="20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336920" y="5486760"/>
              <a:ext cx="20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>
              <a:off x="4344480" y="522576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V="1">
              <a:off x="4378680" y="512676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378680" y="539244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H="1">
              <a:off x="4446360" y="55782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V="1">
              <a:off x="448092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480920" y="5744880"/>
              <a:ext cx="0" cy="27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H="1">
              <a:off x="4781880" y="5123880"/>
              <a:ext cx="207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4648680" y="5486760"/>
              <a:ext cx="20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782240" y="522576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>
              <a:off x="4815000" y="512676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815000" y="539244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680000" y="55782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flipV="1">
              <a:off x="471276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907160" y="5486760"/>
              <a:ext cx="20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4914000" y="522576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V="1">
              <a:off x="4948560" y="512676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948560" y="539244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H="1">
              <a:off x="5016240" y="55782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505080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050800" y="5744880"/>
              <a:ext cx="0" cy="20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>
              <a:off x="5478120" y="5486760"/>
              <a:ext cx="213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597280" y="522576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V="1">
              <a:off x="5629680" y="4815000"/>
              <a:ext cx="0" cy="40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629680" y="539244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502240" y="55782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V="1">
              <a:off x="553500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788800" y="5474880"/>
              <a:ext cx="544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>
              <a:off x="5825880" y="557820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V="1">
              <a:off x="586008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>
              <a:off x="5953320" y="557820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V="1">
              <a:off x="598752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5987520" y="574488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H="1">
              <a:off x="6077520" y="55782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611208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112080" y="5744880"/>
              <a:ext cx="0" cy="13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>
              <a:off x="6203520" y="55782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V="1">
              <a:off x="623844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238440" y="5744880"/>
              <a:ext cx="0" cy="61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6" name=""/>
            <p:cNvGrpSpPr/>
            <p:nvPr/>
          </p:nvGrpSpPr>
          <p:grpSpPr>
            <a:xfrm>
              <a:off x="6196680" y="5115240"/>
              <a:ext cx="66600" cy="361080"/>
              <a:chOff x="6196680" y="5115240"/>
              <a:chExt cx="66600" cy="361080"/>
            </a:xfrm>
          </p:grpSpPr>
          <p:sp>
            <p:nvSpPr>
              <p:cNvPr id="817" name=""/>
              <p:cNvSpPr/>
              <p:nvPr/>
            </p:nvSpPr>
            <p:spPr>
              <a:xfrm flipH="1" flipV="1">
                <a:off x="6196320" y="5211360"/>
                <a:ext cx="66600" cy="166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6230880" y="5380560"/>
                <a:ext cx="0" cy="9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flipV="1">
                <a:off x="6230880" y="5115240"/>
                <a:ext cx="0" cy="9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0" name=""/>
            <p:cNvSpPr/>
            <p:nvPr/>
          </p:nvSpPr>
          <p:spPr>
            <a:xfrm>
              <a:off x="6476040" y="5474880"/>
              <a:ext cx="544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H="1">
              <a:off x="6512400" y="55782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V="1">
              <a:off x="654696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546960" y="5744880"/>
              <a:ext cx="0" cy="55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>
              <a:off x="6640560" y="557820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V="1">
              <a:off x="667476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674760" y="5744880"/>
              <a:ext cx="0" cy="26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>
              <a:off x="6764760" y="55782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V="1">
              <a:off x="679932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799320" y="574488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>
              <a:off x="6891480" y="557820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V="1">
              <a:off x="692568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925680" y="5744880"/>
              <a:ext cx="0" cy="20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3" name=""/>
            <p:cNvGrpSpPr/>
            <p:nvPr/>
          </p:nvGrpSpPr>
          <p:grpSpPr>
            <a:xfrm>
              <a:off x="6517440" y="5115240"/>
              <a:ext cx="66960" cy="361080"/>
              <a:chOff x="6517440" y="5115240"/>
              <a:chExt cx="66960" cy="361080"/>
            </a:xfrm>
          </p:grpSpPr>
          <p:sp>
            <p:nvSpPr>
              <p:cNvPr id="834" name=""/>
              <p:cNvSpPr/>
              <p:nvPr/>
            </p:nvSpPr>
            <p:spPr>
              <a:xfrm flipH="1" flipV="1">
                <a:off x="6517440" y="5211360"/>
                <a:ext cx="66960" cy="166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6551280" y="5380560"/>
                <a:ext cx="0" cy="9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V="1">
                <a:off x="6551280" y="5115240"/>
                <a:ext cx="0" cy="9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7" name=""/>
            <p:cNvSpPr/>
            <p:nvPr/>
          </p:nvSpPr>
          <p:spPr>
            <a:xfrm>
              <a:off x="6119640" y="5116680"/>
              <a:ext cx="544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987480" y="540720"/>
              <a:ext cx="774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452600" y="636840"/>
              <a:ext cx="63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346360" y="1970640"/>
              <a:ext cx="18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>
              <a:off x="9209160" y="5877720"/>
              <a:ext cx="329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9539280" y="4178160"/>
              <a:ext cx="0" cy="169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flipH="1">
              <a:off x="8782200" y="4178160"/>
              <a:ext cx="75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>
              <a:off x="7569360" y="5947200"/>
              <a:ext cx="147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8613360" y="6019560"/>
              <a:ext cx="213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>
              <a:off x="8684280" y="611244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V="1">
              <a:off x="8718480" y="6013440"/>
              <a:ext cx="0" cy="9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8718480" y="627912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8719920" y="6373800"/>
              <a:ext cx="1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8249400" y="6019560"/>
              <a:ext cx="213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>
              <a:off x="8319960" y="611244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V="1">
              <a:off x="8354880" y="6013440"/>
              <a:ext cx="0" cy="9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8354880" y="627912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>
              <a:off x="8354520" y="6373800"/>
              <a:ext cx="1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8068320" y="5744880"/>
              <a:ext cx="0" cy="13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>
              <a:off x="7884000" y="5874840"/>
              <a:ext cx="1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887240" y="4178160"/>
              <a:ext cx="0" cy="169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H="1">
              <a:off x="7887240" y="4176720"/>
              <a:ext cx="615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976520" y="5744880"/>
              <a:ext cx="0" cy="6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7718400" y="5744880"/>
              <a:ext cx="0" cy="6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>
              <a:off x="7727040" y="5806800"/>
              <a:ext cx="244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>
              <a:off x="4713840" y="5879160"/>
              <a:ext cx="113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712760" y="5744880"/>
              <a:ext cx="0" cy="13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856840" y="5744880"/>
              <a:ext cx="0" cy="13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242320" y="5744880"/>
              <a:ext cx="0" cy="13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>
              <a:off x="5052600" y="5950080"/>
              <a:ext cx="186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531760" y="5744880"/>
              <a:ext cx="0" cy="20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>
              <a:off x="6110280" y="5877720"/>
              <a:ext cx="93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045920" y="4107240"/>
              <a:ext cx="0" cy="177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H="1">
              <a:off x="7051320" y="4102560"/>
              <a:ext cx="108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>
              <a:off x="1524240" y="5947200"/>
              <a:ext cx="75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V="1">
              <a:off x="2290320" y="5842440"/>
              <a:ext cx="0" cy="10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V="1">
              <a:off x="2462760" y="584244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2460960" y="594288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V="1">
              <a:off x="2637720" y="5842080"/>
              <a:ext cx="0" cy="17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V="1">
              <a:off x="2779920" y="5842080"/>
              <a:ext cx="0" cy="17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H="1">
              <a:off x="595080" y="6019560"/>
              <a:ext cx="204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>
              <a:off x="2779560" y="6019560"/>
              <a:ext cx="52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H="1">
              <a:off x="946800" y="6089040"/>
              <a:ext cx="252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V="1">
              <a:off x="3474720" y="584244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V="1">
              <a:off x="3612600" y="584244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>
              <a:off x="3612240" y="5948640"/>
              <a:ext cx="52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>
              <a:off x="1880640" y="6159600"/>
              <a:ext cx="19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V="1">
              <a:off x="3804120" y="5842080"/>
              <a:ext cx="0" cy="31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V="1">
              <a:off x="3947040" y="5842080"/>
              <a:ext cx="0" cy="17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>
              <a:off x="3948120" y="6018120"/>
              <a:ext cx="52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87" name=""/>
            <p:cNvGraphicFramePr/>
            <p:nvPr/>
          </p:nvGraphicFramePr>
          <p:xfrm>
            <a:off x="5643360" y="4354920"/>
            <a:ext cx="82800" cy="141840"/>
          </p:xfrm>
          <a:graphic>
            <a:graphicData uri="http://schemas.openxmlformats.org/presentationml/2006/ole">
              <p:oleObj progId="Word.Document.12" r:id="rId5" spid="">
                <p:embed/>
                <p:pic>
                  <p:nvPicPr>
                    <p:cNvPr id="88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643360" y="4354920"/>
                      <a:ext cx="82800" cy="14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9" name=""/>
            <p:cNvGraphicFramePr/>
            <p:nvPr/>
          </p:nvGraphicFramePr>
          <p:xfrm>
            <a:off x="6288840" y="4350600"/>
            <a:ext cx="82800" cy="141480"/>
          </p:xfrm>
          <a:graphic>
            <a:graphicData uri="http://schemas.openxmlformats.org/presentationml/2006/ole">
              <p:oleObj progId="Word.Document.12" r:id="rId7" spid="">
                <p:embed/>
                <p:pic>
                  <p:nvPicPr>
                    <p:cNvPr id="89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288840" y="4350600"/>
                      <a:ext cx="82800" cy="141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91" name=""/>
            <p:cNvSpPr/>
            <p:nvPr/>
          </p:nvSpPr>
          <p:spPr>
            <a:xfrm flipH="1">
              <a:off x="1734120" y="6231960"/>
              <a:ext cx="402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763600" y="4815360"/>
              <a:ext cx="0" cy="14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flipH="1">
              <a:off x="5763600" y="4816800"/>
              <a:ext cx="854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1203480" y="6363360"/>
              <a:ext cx="503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H="1">
              <a:off x="2027520" y="6298560"/>
              <a:ext cx="452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513680" y="3788640"/>
              <a:ext cx="10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4623480" y="3791160"/>
              <a:ext cx="0" cy="81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4623480" y="4602960"/>
              <a:ext cx="314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8711280" y="4673880"/>
              <a:ext cx="0" cy="44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904840" y="4673880"/>
              <a:ext cx="580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646720" y="4744440"/>
              <a:ext cx="482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6671880" y="6010560"/>
              <a:ext cx="44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117200" y="4249080"/>
              <a:ext cx="0" cy="176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7119360" y="4245840"/>
              <a:ext cx="20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532680" y="4815360"/>
              <a:ext cx="208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376800" y="4886280"/>
              <a:ext cx="195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982320" y="4956840"/>
              <a:ext cx="89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881960" y="495684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136320" y="4602960"/>
              <a:ext cx="0" cy="52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136320" y="4602960"/>
              <a:ext cx="123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311720" y="5027760"/>
              <a:ext cx="0" cy="1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316400" y="5027760"/>
              <a:ext cx="157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701880" y="4532040"/>
              <a:ext cx="2822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701880" y="4532040"/>
              <a:ext cx="0" cy="59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349600" y="4319640"/>
              <a:ext cx="128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478480" y="4319640"/>
              <a:ext cx="0" cy="63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391080" y="4956840"/>
              <a:ext cx="0" cy="15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478480" y="4956840"/>
              <a:ext cx="912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6903360" y="229824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V="1" rot="16200000">
              <a:off x="6832080" y="256860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864840" y="264060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86484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flipV="1" rot="16200000">
              <a:off x="6974280" y="256860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007040" y="264060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00704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864840" y="2522520"/>
              <a:ext cx="14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V="1" rot="16200000">
              <a:off x="6900480" y="217584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936120" y="246636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936120" y="22478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936120" y="1769760"/>
              <a:ext cx="0" cy="40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rot="5400000">
              <a:off x="6832080" y="316548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V="1">
              <a:off x="6864840" y="31154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flipV="1">
              <a:off x="6864840" y="32407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 rot="5400000">
              <a:off x="6974280" y="316548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flipV="1">
              <a:off x="7007040" y="290268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 flipV="1">
              <a:off x="7007040" y="32407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864840" y="3283920"/>
              <a:ext cx="14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V="1">
              <a:off x="6900480" y="334152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 flipV="1">
              <a:off x="7597800" y="2902680"/>
              <a:ext cx="0" cy="10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562680" y="1199160"/>
              <a:ext cx="4986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220 kV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977040" y="1199160"/>
              <a:ext cx="4982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Stuparei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87080" y="1269720"/>
              <a:ext cx="2134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60440" y="137592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II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398160" y="248256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II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398160" y="2367360"/>
              <a:ext cx="2358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53880" y="2279160"/>
              <a:ext cx="4982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10 kV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088280" y="2553480"/>
              <a:ext cx="4986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Stuparei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829800" y="3407760"/>
              <a:ext cx="8726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10 kV Cazanesti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20480" y="333684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II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24800" y="3227760"/>
              <a:ext cx="2376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829800" y="4120560"/>
              <a:ext cx="8726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6 kV Cazanesti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221840" y="4505760"/>
              <a:ext cx="5252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Uz. Mec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622520" y="4917240"/>
              <a:ext cx="5252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CTvA-C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49880" y="4917240"/>
              <a:ext cx="5252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CTvA-B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985680" y="4695840"/>
              <a:ext cx="8726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6 kV-400MVA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491760" y="5311440"/>
              <a:ext cx="2134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84840" y="5329080"/>
              <a:ext cx="2134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84840" y="5041440"/>
              <a:ext cx="2491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816480" y="5311440"/>
              <a:ext cx="2134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079280" y="531144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232280" y="5311440"/>
              <a:ext cx="2833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1386720" y="5311440"/>
              <a:ext cx="2844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1586880" y="531144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747080" y="531144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1916280" y="531144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26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1212840" y="5474880"/>
              <a:ext cx="3560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C L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1212840" y="5576760"/>
              <a:ext cx="3560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A-C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228040" y="502776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B1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584080" y="5027760"/>
              <a:ext cx="4273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6 kV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837880" y="5027760"/>
              <a:ext cx="2836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B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185280" y="5027760"/>
              <a:ext cx="4273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6 kV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174400" y="5311440"/>
              <a:ext cx="3826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S1A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571120" y="5311440"/>
              <a:ext cx="3826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S1B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775600" y="5311440"/>
              <a:ext cx="3826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S2A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3162960" y="5311440"/>
              <a:ext cx="3826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S2B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412440" y="502776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B3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3750840" y="5027760"/>
              <a:ext cx="4273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6 kV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3351600" y="5311440"/>
              <a:ext cx="3816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S3A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737520" y="5311440"/>
              <a:ext cx="3826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S3B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004640" y="502776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B4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4343040" y="5027760"/>
              <a:ext cx="4273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6 kV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3942360" y="5311440"/>
              <a:ext cx="3826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S4A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329720" y="5311440"/>
              <a:ext cx="3826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S4B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579200" y="502776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B5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4917240" y="5027760"/>
              <a:ext cx="4273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6 kV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525560" y="5311440"/>
              <a:ext cx="3826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5BA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908600" y="5311440"/>
              <a:ext cx="3826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5BB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5140080" y="5027760"/>
              <a:ext cx="2862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B6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340240" y="5027760"/>
              <a:ext cx="4273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6 kV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224680" y="5470560"/>
              <a:ext cx="3816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6BA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496120" y="5470560"/>
              <a:ext cx="3826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6BB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836320" y="5099040"/>
              <a:ext cx="4258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SG I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6534000" y="5099040"/>
              <a:ext cx="4273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6 kV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5836320" y="5240520"/>
              <a:ext cx="4258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OB1L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524640" y="5240520"/>
              <a:ext cx="4986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OB1M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7117200" y="5311440"/>
              <a:ext cx="4982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OBN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7468920" y="5306760"/>
              <a:ext cx="4273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6 kV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811640" y="4948200"/>
              <a:ext cx="4986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SG II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7811640" y="5066280"/>
              <a:ext cx="4986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CB2L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7933320" y="4319640"/>
              <a:ext cx="5695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VILMAR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8826840" y="4956840"/>
              <a:ext cx="428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6 kV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8898120" y="5289120"/>
              <a:ext cx="4986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CB2M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8755560" y="5961960"/>
              <a:ext cx="4273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6 kV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8448120" y="5966640"/>
              <a:ext cx="4273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7BB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8043120" y="5966640"/>
              <a:ext cx="4273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7BA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7933320" y="3407760"/>
              <a:ext cx="4258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OBG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8328240" y="3407760"/>
              <a:ext cx="4273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OBH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8043120" y="3292560"/>
              <a:ext cx="5698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Concasar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8582040" y="3407760"/>
              <a:ext cx="4273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OBR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8969400" y="3407760"/>
              <a:ext cx="4273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OBS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8759880" y="3292560"/>
              <a:ext cx="4230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Benzi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8782200" y="3593880"/>
              <a:ext cx="4273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6 kV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8328240" y="2964960"/>
              <a:ext cx="4273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35 kV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155840" y="1911600"/>
              <a:ext cx="344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7539840" y="2721960"/>
              <a:ext cx="11736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7539840" y="2783880"/>
              <a:ext cx="11736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V="1">
              <a:off x="7597800" y="1911240"/>
              <a:ext cx="0" cy="80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7900560" y="1700640"/>
              <a:ext cx="9259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10 kV Riureni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8043120" y="919800"/>
              <a:ext cx="9259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220 kV Riureni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615440" y="1924920"/>
              <a:ext cx="2134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7615440" y="205308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II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5905800" y="779760"/>
              <a:ext cx="7837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SRA 3-AMIN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3911400" y="663120"/>
              <a:ext cx="4273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El. IV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4267440" y="849240"/>
              <a:ext cx="4273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RD 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3710520" y="849240"/>
              <a:ext cx="4273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RD 1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717640" y="849240"/>
              <a:ext cx="4291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RD 1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078720" y="849240"/>
              <a:ext cx="2134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3278880" y="849240"/>
              <a:ext cx="2134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3483720" y="849240"/>
              <a:ext cx="2134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985120" y="636840"/>
              <a:ext cx="7124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Electroliza III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552560" y="2265840"/>
              <a:ext cx="4982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Statia 110 kV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455200" y="2932560"/>
              <a:ext cx="2844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31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455200" y="2673000"/>
              <a:ext cx="2844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700000" y="293256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29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700000" y="267300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 rot="5400000">
              <a:off x="3198600" y="316548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958480" y="2932560"/>
              <a:ext cx="2844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27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958480" y="2673000"/>
              <a:ext cx="2844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28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3229920" y="2932560"/>
              <a:ext cx="2844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3229920" y="2673000"/>
              <a:ext cx="2844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26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3555000" y="293256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3555000" y="267300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24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3951360" y="2932560"/>
              <a:ext cx="2844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21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3951360" y="2673000"/>
              <a:ext cx="2844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4267440" y="293256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4485600" y="274824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B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561200" y="254016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2B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734720" y="254016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2B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4766040" y="2761560"/>
              <a:ext cx="3560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2A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908600" y="293256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908600" y="267300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5135760" y="2932560"/>
              <a:ext cx="2844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135760" y="2673000"/>
              <a:ext cx="2844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5478480" y="293256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478480" y="267300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785560" y="293256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785560" y="267300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119640" y="2932560"/>
              <a:ext cx="2862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6119640" y="2673000"/>
              <a:ext cx="2862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6440400" y="293256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6440400" y="267300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6760800" y="293256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6760800" y="267300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 flipV="1">
              <a:off x="6930000" y="328932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 rot="16200000">
              <a:off x="2267640" y="3714840"/>
              <a:ext cx="4248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OBT3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 rot="16200000">
              <a:off x="2546640" y="3713400"/>
              <a:ext cx="4248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OBT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 rot="16200000">
              <a:off x="2853000" y="3697920"/>
              <a:ext cx="3128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T6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 rot="16200000">
              <a:off x="2853000" y="4353120"/>
              <a:ext cx="3128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G6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 rot="16200000">
              <a:off x="3466440" y="4192920"/>
              <a:ext cx="3124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G5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 rot="16200000">
              <a:off x="3466080" y="3697920"/>
              <a:ext cx="3128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T5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243240" y="3553920"/>
              <a:ext cx="4050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CTvB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 rot="16200000">
              <a:off x="3052800" y="4170960"/>
              <a:ext cx="4543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T16A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 rot="16200000">
              <a:off x="3227040" y="4165560"/>
              <a:ext cx="4500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T16B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rot="16200000">
              <a:off x="3772440" y="4276440"/>
              <a:ext cx="4806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T15G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 rot="16200000">
              <a:off x="3856320" y="3697920"/>
              <a:ext cx="3128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T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 rot="16200000">
              <a:off x="4991040" y="3713400"/>
              <a:ext cx="4248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OBT1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rot="16200000">
              <a:off x="5365800" y="3697920"/>
              <a:ext cx="3128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T4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 rot="16200000">
              <a:off x="4073760" y="3995280"/>
              <a:ext cx="3391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T1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628160" y="3407760"/>
              <a:ext cx="3513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CL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5763600" y="3553920"/>
              <a:ext cx="4986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CTvA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 rot="16200000">
              <a:off x="6011280" y="3697920"/>
              <a:ext cx="3128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T3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 rot="16200000">
              <a:off x="6210000" y="3637800"/>
              <a:ext cx="5220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OBT”0”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 rot="16200000">
              <a:off x="5371560" y="4332600"/>
              <a:ext cx="3128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G4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 rot="16200000">
              <a:off x="6011280" y="4326840"/>
              <a:ext cx="3128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G3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 rot="16200000">
              <a:off x="5565240" y="3961080"/>
              <a:ext cx="383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T14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 rot="16200000">
              <a:off x="6210720" y="3961080"/>
              <a:ext cx="383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T13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 flipV="1">
              <a:off x="6932880" y="351648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6876360" y="3576240"/>
              <a:ext cx="11736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6876360" y="3637800"/>
              <a:ext cx="11736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6930000" y="3611520"/>
              <a:ext cx="11700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7048800" y="3673440"/>
              <a:ext cx="51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150040" y="4459680"/>
              <a:ext cx="4629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USG 1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651960" y="6147720"/>
              <a:ext cx="6411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Priza Olt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4" name=""/>
            <p:cNvGrpSpPr/>
            <p:nvPr/>
          </p:nvGrpSpPr>
          <p:grpSpPr>
            <a:xfrm>
              <a:off x="2343960" y="2062080"/>
              <a:ext cx="117000" cy="116640"/>
              <a:chOff x="2343960" y="2062080"/>
              <a:chExt cx="117000" cy="116640"/>
            </a:xfrm>
          </p:grpSpPr>
          <p:sp>
            <p:nvSpPr>
              <p:cNvPr id="1095" name=""/>
              <p:cNvSpPr/>
              <p:nvPr/>
            </p:nvSpPr>
            <p:spPr>
              <a:xfrm>
                <a:off x="2343960" y="2062080"/>
                <a:ext cx="117000" cy="11664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flipH="1" flipV="1">
                <a:off x="2373480" y="2090880"/>
                <a:ext cx="4968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7" name=""/>
            <p:cNvGrpSpPr/>
            <p:nvPr/>
          </p:nvGrpSpPr>
          <p:grpSpPr>
            <a:xfrm>
              <a:off x="3100680" y="3996720"/>
              <a:ext cx="117000" cy="116280"/>
              <a:chOff x="3100680" y="3996720"/>
              <a:chExt cx="117000" cy="116280"/>
            </a:xfrm>
          </p:grpSpPr>
          <p:sp>
            <p:nvSpPr>
              <p:cNvPr id="1098" name=""/>
              <p:cNvSpPr/>
              <p:nvPr/>
            </p:nvSpPr>
            <p:spPr>
              <a:xfrm>
                <a:off x="3100680" y="3996720"/>
                <a:ext cx="117000" cy="1162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 flipH="1" flipV="1">
                <a:off x="3130200" y="4025520"/>
                <a:ext cx="4968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0" name=""/>
            <p:cNvGrpSpPr/>
            <p:nvPr/>
          </p:nvGrpSpPr>
          <p:grpSpPr>
            <a:xfrm>
              <a:off x="3706200" y="3996720"/>
              <a:ext cx="117000" cy="116280"/>
              <a:chOff x="3706200" y="3996720"/>
              <a:chExt cx="117000" cy="116280"/>
            </a:xfrm>
          </p:grpSpPr>
          <p:sp>
            <p:nvSpPr>
              <p:cNvPr id="1101" name=""/>
              <p:cNvSpPr/>
              <p:nvPr/>
            </p:nvSpPr>
            <p:spPr>
              <a:xfrm>
                <a:off x="3706200" y="3996720"/>
                <a:ext cx="117000" cy="1162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 flipH="1" flipV="1">
                <a:off x="3735720" y="4025520"/>
                <a:ext cx="4968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3" name=""/>
            <p:cNvGrpSpPr/>
            <p:nvPr/>
          </p:nvGrpSpPr>
          <p:grpSpPr>
            <a:xfrm>
              <a:off x="4565520" y="3996720"/>
              <a:ext cx="117360" cy="116280"/>
              <a:chOff x="4565520" y="3996720"/>
              <a:chExt cx="117360" cy="116280"/>
            </a:xfrm>
          </p:grpSpPr>
          <p:sp>
            <p:nvSpPr>
              <p:cNvPr id="1104" name=""/>
              <p:cNvSpPr/>
              <p:nvPr/>
            </p:nvSpPr>
            <p:spPr>
              <a:xfrm>
                <a:off x="4565520" y="3996720"/>
                <a:ext cx="117360" cy="1162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 flipH="1" flipV="1">
                <a:off x="4595040" y="4025520"/>
                <a:ext cx="5004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6" name=""/>
            <p:cNvGrpSpPr/>
            <p:nvPr/>
          </p:nvGrpSpPr>
          <p:grpSpPr>
            <a:xfrm>
              <a:off x="5612040" y="3979080"/>
              <a:ext cx="117360" cy="116280"/>
              <a:chOff x="5612040" y="3979080"/>
              <a:chExt cx="117360" cy="116280"/>
            </a:xfrm>
          </p:grpSpPr>
          <p:sp>
            <p:nvSpPr>
              <p:cNvPr id="1107" name=""/>
              <p:cNvSpPr/>
              <p:nvPr/>
            </p:nvSpPr>
            <p:spPr>
              <a:xfrm>
                <a:off x="5612040" y="3979080"/>
                <a:ext cx="117360" cy="1162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 flipH="1" flipV="1">
                <a:off x="5641560" y="4007880"/>
                <a:ext cx="5004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9" name=""/>
            <p:cNvGrpSpPr/>
            <p:nvPr/>
          </p:nvGrpSpPr>
          <p:grpSpPr>
            <a:xfrm>
              <a:off x="6253200" y="3979080"/>
              <a:ext cx="117360" cy="116280"/>
              <a:chOff x="6253200" y="3979080"/>
              <a:chExt cx="117360" cy="116280"/>
            </a:xfrm>
          </p:grpSpPr>
          <p:sp>
            <p:nvSpPr>
              <p:cNvPr id="1110" name=""/>
              <p:cNvSpPr/>
              <p:nvPr/>
            </p:nvSpPr>
            <p:spPr>
              <a:xfrm>
                <a:off x="6253200" y="3979080"/>
                <a:ext cx="117360" cy="1162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 flipH="1" flipV="1">
                <a:off x="6282720" y="4007880"/>
                <a:ext cx="5004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2" name=""/>
            <p:cNvGrpSpPr/>
            <p:nvPr/>
          </p:nvGrpSpPr>
          <p:grpSpPr>
            <a:xfrm>
              <a:off x="2842560" y="1973520"/>
              <a:ext cx="117000" cy="116280"/>
              <a:chOff x="2842560" y="1973520"/>
              <a:chExt cx="117000" cy="116280"/>
            </a:xfrm>
          </p:grpSpPr>
          <p:sp>
            <p:nvSpPr>
              <p:cNvPr id="1113" name=""/>
              <p:cNvSpPr/>
              <p:nvPr/>
            </p:nvSpPr>
            <p:spPr>
              <a:xfrm>
                <a:off x="2842560" y="1973520"/>
                <a:ext cx="117000" cy="1162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 flipH="1" flipV="1">
                <a:off x="2872080" y="2002320"/>
                <a:ext cx="4968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5" name=""/>
            <p:cNvGrpSpPr/>
            <p:nvPr/>
          </p:nvGrpSpPr>
          <p:grpSpPr>
            <a:xfrm>
              <a:off x="3100680" y="1973520"/>
              <a:ext cx="117000" cy="116280"/>
              <a:chOff x="3100680" y="1973520"/>
              <a:chExt cx="117000" cy="116280"/>
            </a:xfrm>
          </p:grpSpPr>
          <p:sp>
            <p:nvSpPr>
              <p:cNvPr id="1116" name=""/>
              <p:cNvSpPr/>
              <p:nvPr/>
            </p:nvSpPr>
            <p:spPr>
              <a:xfrm>
                <a:off x="3100680" y="1973520"/>
                <a:ext cx="117000" cy="1162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 flipH="1" flipV="1">
                <a:off x="3130200" y="2002320"/>
                <a:ext cx="4968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8" name=""/>
            <p:cNvGrpSpPr/>
            <p:nvPr/>
          </p:nvGrpSpPr>
          <p:grpSpPr>
            <a:xfrm>
              <a:off x="3385800" y="1973520"/>
              <a:ext cx="117000" cy="116280"/>
              <a:chOff x="3385800" y="1973520"/>
              <a:chExt cx="117000" cy="116280"/>
            </a:xfrm>
          </p:grpSpPr>
          <p:sp>
            <p:nvSpPr>
              <p:cNvPr id="1119" name=""/>
              <p:cNvSpPr/>
              <p:nvPr/>
            </p:nvSpPr>
            <p:spPr>
              <a:xfrm>
                <a:off x="3385800" y="1973520"/>
                <a:ext cx="117000" cy="1162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 flipH="1" flipV="1">
                <a:off x="3415320" y="2002320"/>
                <a:ext cx="4968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1" name=""/>
            <p:cNvGrpSpPr/>
            <p:nvPr/>
          </p:nvGrpSpPr>
          <p:grpSpPr>
            <a:xfrm>
              <a:off x="4098240" y="1973520"/>
              <a:ext cx="117360" cy="116280"/>
              <a:chOff x="4098240" y="1973520"/>
              <a:chExt cx="117360" cy="116280"/>
            </a:xfrm>
          </p:grpSpPr>
          <p:sp>
            <p:nvSpPr>
              <p:cNvPr id="1122" name=""/>
              <p:cNvSpPr/>
              <p:nvPr/>
            </p:nvSpPr>
            <p:spPr>
              <a:xfrm>
                <a:off x="4098240" y="1973520"/>
                <a:ext cx="117360" cy="1162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 flipH="1" flipV="1">
                <a:off x="4127760" y="2002320"/>
                <a:ext cx="5004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4" name=""/>
            <p:cNvGrpSpPr/>
            <p:nvPr/>
          </p:nvGrpSpPr>
          <p:grpSpPr>
            <a:xfrm>
              <a:off x="4423320" y="1973520"/>
              <a:ext cx="117000" cy="116280"/>
              <a:chOff x="4423320" y="1973520"/>
              <a:chExt cx="117000" cy="116280"/>
            </a:xfrm>
          </p:grpSpPr>
          <p:sp>
            <p:nvSpPr>
              <p:cNvPr id="1125" name=""/>
              <p:cNvSpPr/>
              <p:nvPr/>
            </p:nvSpPr>
            <p:spPr>
              <a:xfrm>
                <a:off x="4423320" y="1973520"/>
                <a:ext cx="117000" cy="1162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 flipH="1" flipV="1">
                <a:off x="4452840" y="2002320"/>
                <a:ext cx="4968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7" name=""/>
            <p:cNvGrpSpPr/>
            <p:nvPr/>
          </p:nvGrpSpPr>
          <p:grpSpPr>
            <a:xfrm>
              <a:off x="5291640" y="2004480"/>
              <a:ext cx="117000" cy="116640"/>
              <a:chOff x="5291640" y="2004480"/>
              <a:chExt cx="117000" cy="116640"/>
            </a:xfrm>
          </p:grpSpPr>
          <p:sp>
            <p:nvSpPr>
              <p:cNvPr id="1128" name=""/>
              <p:cNvSpPr/>
              <p:nvPr/>
            </p:nvSpPr>
            <p:spPr>
              <a:xfrm>
                <a:off x="5291640" y="2004480"/>
                <a:ext cx="117000" cy="11664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 flipH="1" flipV="1">
                <a:off x="5321160" y="2033280"/>
                <a:ext cx="4968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0" name=""/>
            <p:cNvSpPr/>
            <p:nvPr/>
          </p:nvSpPr>
          <p:spPr>
            <a:xfrm>
              <a:off x="5986080" y="212436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1" name=""/>
            <p:cNvGrpSpPr/>
            <p:nvPr/>
          </p:nvGrpSpPr>
          <p:grpSpPr>
            <a:xfrm>
              <a:off x="5616360" y="2004480"/>
              <a:ext cx="117360" cy="116640"/>
              <a:chOff x="5616360" y="2004480"/>
              <a:chExt cx="117360" cy="116640"/>
            </a:xfrm>
          </p:grpSpPr>
          <p:sp>
            <p:nvSpPr>
              <p:cNvPr id="1132" name=""/>
              <p:cNvSpPr/>
              <p:nvPr/>
            </p:nvSpPr>
            <p:spPr>
              <a:xfrm>
                <a:off x="5616360" y="2004480"/>
                <a:ext cx="117360" cy="11664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 flipH="1" flipV="1">
                <a:off x="5645880" y="2033280"/>
                <a:ext cx="5004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4" name=""/>
            <p:cNvGrpSpPr/>
            <p:nvPr/>
          </p:nvGrpSpPr>
          <p:grpSpPr>
            <a:xfrm>
              <a:off x="6253200" y="2004480"/>
              <a:ext cx="117360" cy="116640"/>
              <a:chOff x="6253200" y="2004480"/>
              <a:chExt cx="117360" cy="116640"/>
            </a:xfrm>
          </p:grpSpPr>
          <p:sp>
            <p:nvSpPr>
              <p:cNvPr id="1135" name=""/>
              <p:cNvSpPr/>
              <p:nvPr/>
            </p:nvSpPr>
            <p:spPr>
              <a:xfrm>
                <a:off x="6253200" y="2004480"/>
                <a:ext cx="117360" cy="11664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 flipH="1" flipV="1">
                <a:off x="6282720" y="2033280"/>
                <a:ext cx="5004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7" name=""/>
            <p:cNvGrpSpPr/>
            <p:nvPr/>
          </p:nvGrpSpPr>
          <p:grpSpPr>
            <a:xfrm>
              <a:off x="6560280" y="2004480"/>
              <a:ext cx="117000" cy="116640"/>
              <a:chOff x="6560280" y="2004480"/>
              <a:chExt cx="117000" cy="116640"/>
            </a:xfrm>
          </p:grpSpPr>
          <p:sp>
            <p:nvSpPr>
              <p:cNvPr id="1138" name=""/>
              <p:cNvSpPr/>
              <p:nvPr/>
            </p:nvSpPr>
            <p:spPr>
              <a:xfrm>
                <a:off x="6560280" y="2004480"/>
                <a:ext cx="117000" cy="11664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 flipH="1" flipV="1">
                <a:off x="6589800" y="2033280"/>
                <a:ext cx="4968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0" name=""/>
            <p:cNvGrpSpPr/>
            <p:nvPr/>
          </p:nvGrpSpPr>
          <p:grpSpPr>
            <a:xfrm>
              <a:off x="6876360" y="2004480"/>
              <a:ext cx="117360" cy="116640"/>
              <a:chOff x="6876360" y="2004480"/>
              <a:chExt cx="117360" cy="116640"/>
            </a:xfrm>
          </p:grpSpPr>
          <p:sp>
            <p:nvSpPr>
              <p:cNvPr id="1141" name=""/>
              <p:cNvSpPr/>
              <p:nvPr/>
            </p:nvSpPr>
            <p:spPr>
              <a:xfrm>
                <a:off x="6876360" y="2004480"/>
                <a:ext cx="117360" cy="11664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 flipH="1" flipV="1">
                <a:off x="6905880" y="2033280"/>
                <a:ext cx="5004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3" name=""/>
            <p:cNvSpPr/>
            <p:nvPr/>
          </p:nvSpPr>
          <p:spPr>
            <a:xfrm>
              <a:off x="3127320" y="141120"/>
              <a:ext cx="2708640" cy="19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Schema electrica monofilar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1028880" y="558576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V="1">
              <a:off x="1061640" y="5753520"/>
              <a:ext cx="0" cy="40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V="1">
              <a:off x="1061640" y="548676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7" name=""/>
            <p:cNvGrpSpPr/>
            <p:nvPr/>
          </p:nvGrpSpPr>
          <p:grpSpPr>
            <a:xfrm>
              <a:off x="1003680" y="5820120"/>
              <a:ext cx="117000" cy="116280"/>
              <a:chOff x="1003680" y="5820120"/>
              <a:chExt cx="117000" cy="116280"/>
            </a:xfrm>
          </p:grpSpPr>
          <p:sp>
            <p:nvSpPr>
              <p:cNvPr id="1148" name=""/>
              <p:cNvSpPr/>
              <p:nvPr/>
            </p:nvSpPr>
            <p:spPr>
              <a:xfrm>
                <a:off x="1003680" y="5820120"/>
                <a:ext cx="117000" cy="1162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 flipH="1" flipV="1">
                <a:off x="1033200" y="5848920"/>
                <a:ext cx="4968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0" name=""/>
            <p:cNvSpPr/>
            <p:nvPr/>
          </p:nvSpPr>
          <p:spPr>
            <a:xfrm flipH="1">
              <a:off x="758520" y="4673880"/>
              <a:ext cx="65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1" name=""/>
            <p:cNvGrpSpPr/>
            <p:nvPr/>
          </p:nvGrpSpPr>
          <p:grpSpPr>
            <a:xfrm>
              <a:off x="695160" y="4744440"/>
              <a:ext cx="117000" cy="116640"/>
              <a:chOff x="695160" y="4744440"/>
              <a:chExt cx="117000" cy="116640"/>
            </a:xfrm>
          </p:grpSpPr>
          <p:sp>
            <p:nvSpPr>
              <p:cNvPr id="1152" name=""/>
              <p:cNvSpPr/>
              <p:nvPr/>
            </p:nvSpPr>
            <p:spPr>
              <a:xfrm>
                <a:off x="695160" y="4744440"/>
                <a:ext cx="117000" cy="11664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 flipH="1" flipV="1">
                <a:off x="724680" y="4773240"/>
                <a:ext cx="4968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4" name=""/>
            <p:cNvSpPr/>
            <p:nvPr/>
          </p:nvSpPr>
          <p:spPr>
            <a:xfrm flipV="1">
              <a:off x="8332560" y="5381640"/>
              <a:ext cx="0" cy="10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H="1">
              <a:off x="8300880" y="521388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V="1">
              <a:off x="8176680" y="5381640"/>
              <a:ext cx="0" cy="10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H="1">
              <a:off x="8145000" y="521388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8176680" y="4461480"/>
              <a:ext cx="0" cy="74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9" name=""/>
            <p:cNvGrpSpPr/>
            <p:nvPr/>
          </p:nvGrpSpPr>
          <p:grpSpPr>
            <a:xfrm>
              <a:off x="8118720" y="4722480"/>
              <a:ext cx="117360" cy="116640"/>
              <a:chOff x="8118720" y="4722480"/>
              <a:chExt cx="117360" cy="116640"/>
            </a:xfrm>
          </p:grpSpPr>
          <p:sp>
            <p:nvSpPr>
              <p:cNvPr id="1160" name=""/>
              <p:cNvSpPr/>
              <p:nvPr/>
            </p:nvSpPr>
            <p:spPr>
              <a:xfrm>
                <a:off x="8118720" y="4722480"/>
                <a:ext cx="117360" cy="11664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 flipH="1" flipV="1">
                <a:off x="8148240" y="4751280"/>
                <a:ext cx="5004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2" name=""/>
            <p:cNvSpPr/>
            <p:nvPr/>
          </p:nvSpPr>
          <p:spPr>
            <a:xfrm>
              <a:off x="8332560" y="4602960"/>
              <a:ext cx="0" cy="60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3" name=""/>
            <p:cNvGrpSpPr/>
            <p:nvPr/>
          </p:nvGrpSpPr>
          <p:grpSpPr>
            <a:xfrm>
              <a:off x="8274600" y="4939200"/>
              <a:ext cx="117360" cy="116640"/>
              <a:chOff x="8274600" y="4939200"/>
              <a:chExt cx="117360" cy="116640"/>
            </a:xfrm>
          </p:grpSpPr>
          <p:sp>
            <p:nvSpPr>
              <p:cNvPr id="1164" name=""/>
              <p:cNvSpPr/>
              <p:nvPr/>
            </p:nvSpPr>
            <p:spPr>
              <a:xfrm>
                <a:off x="8274600" y="4939200"/>
                <a:ext cx="117360" cy="11664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 flipH="1" flipV="1">
                <a:off x="8304120" y="4968000"/>
                <a:ext cx="5004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6" name=""/>
            <p:cNvSpPr/>
            <p:nvPr/>
          </p:nvSpPr>
          <p:spPr>
            <a:xfrm flipV="1">
              <a:off x="9285480" y="5381640"/>
              <a:ext cx="0" cy="10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H="1">
              <a:off x="9253800" y="521388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9285480" y="4602960"/>
              <a:ext cx="0" cy="60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9" name=""/>
            <p:cNvGrpSpPr/>
            <p:nvPr/>
          </p:nvGrpSpPr>
          <p:grpSpPr>
            <a:xfrm>
              <a:off x="9227520" y="4939200"/>
              <a:ext cx="117360" cy="116640"/>
              <a:chOff x="9227520" y="4939200"/>
              <a:chExt cx="117360" cy="116640"/>
            </a:xfrm>
          </p:grpSpPr>
          <p:sp>
            <p:nvSpPr>
              <p:cNvPr id="1170" name=""/>
              <p:cNvSpPr/>
              <p:nvPr/>
            </p:nvSpPr>
            <p:spPr>
              <a:xfrm>
                <a:off x="9227520" y="4939200"/>
                <a:ext cx="117360" cy="11664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 flipH="1" flipV="1">
                <a:off x="9257040" y="4968000"/>
                <a:ext cx="5004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2" name=""/>
            <p:cNvSpPr/>
            <p:nvPr/>
          </p:nvSpPr>
          <p:spPr>
            <a:xfrm>
              <a:off x="9040680" y="4459680"/>
              <a:ext cx="4629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USG 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3" name=""/>
          <p:cNvSpPr/>
          <p:nvPr/>
        </p:nvSpPr>
        <p:spPr>
          <a:xfrm>
            <a:off x="2363400" y="6448320"/>
            <a:ext cx="291528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9040" rIns="59040" tIns="29520" bIns="29520" anchor="t">
            <a:spAutoFit/>
          </a:bodyPr>
          <a:p>
            <a:pPr>
              <a:tabLst>
                <a:tab algn="l" pos="0"/>
                <a:tab algn="l" pos="588960"/>
                <a:tab algn="l" pos="1177920"/>
                <a:tab algn="l" pos="1766880"/>
                <a:tab algn="l" pos="2355840"/>
                <a:tab algn="l" pos="2944800"/>
                <a:tab algn="l" pos="3533760"/>
                <a:tab algn="l" pos="4122720"/>
                <a:tab algn="l" pos="4711680"/>
                <a:tab algn="l" pos="5300640"/>
                <a:tab algn="l" pos="5889600"/>
                <a:tab algn="l" pos="6478560"/>
                <a:tab algn="l" pos="7067520"/>
                <a:tab algn="l" pos="7656480"/>
                <a:tab algn="l" pos="8245440"/>
                <a:tab algn="l" pos="8834400"/>
                <a:tab algn="l" pos="9423360"/>
                <a:tab algn="l" pos="10012320"/>
                <a:tab algn="l" pos="106012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g. nr. 2.4 Schema electric</a:t>
            </a:r>
            <a:r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ă monifilară a CET Govo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11T05:05:17Z</dcterms:created>
  <dc:creator>CET</dc:creator>
  <dc:description/>
  <dc:language>en-US</dc:language>
  <cp:lastModifiedBy>Carmen</cp:lastModifiedBy>
  <cp:lastPrinted>2000-08-11T05:07:41Z</cp:lastPrinted>
  <dcterms:modified xsi:type="dcterms:W3CDTF">2007-08-15T15:22:00Z</dcterms:modified>
  <cp:revision>4</cp:revision>
  <dc:subject/>
  <dc:title>No Slide Title</dc:title>
</cp:coreProperties>
</file>